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BC68-E6DF-4F4D-AC6C-001636B5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 Service Rep-MCCU: Previous Manager left, same situation- same fight – same silos- same lack of communic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both, personal perspective, but joint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ous Statements – Did anyone see that the trash can is full?  You did a lot better than the last time.  It was really nice for you to think of 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estable Statements – Unilateral statements, I know, I’ve had more experience than you hav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Feelings – Hesitate because of what they might thin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behavior; fights with your spou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st is cooperation, collaboration is most difficult and is the least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ings go well keep doing what you’re d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his by the age of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 it so well that we no longer need to monitor what we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ptions start to control the decision process.  It becomes self-serving and self-sealing. Soon don’t need to even look at data or interpret i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E16-8D41-4FFE-BE06-A18DACEE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7DE-A445-470D-9F4C-9E9B944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2C7-A457-4C83-A802-D68AF2E2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5F3-CDCD-4AF2-9004-0D898AAF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E7F-4FE3-420E-961C-89471F37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39-A0AC-4409-8B6E-09CCF7A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772-B845-46A3-80D5-C9584718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F82-58CE-4648-AC78-40E9846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C63-A337-46EB-BFED-3A41F2CD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FA9-AF52-4D41-8684-557E489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4F1-A1B6-4CDD-B04C-DC9449C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44F-95C9-44B0-8B84-FBBCAD9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601"/>
              </a:spcBef>
              <a:spcAft>
                <a:spcPts val="601"/>
              </a:spcAft>
              <a:buClr>
                <a:srgbClr val="0000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6C3-7077-4633-967F-F4654BA21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905120"/>
            <a:ext cx="77724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Learning to Collaborate</a:t>
            </a:r>
            <a:endParaRPr b="1" i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learning and thereby prevent organizations from eliminating the underlying problems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ic: people leave and new ones arrive; yet the defensive routines rema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vercome our suspicions, we must be able to discuss them, and that violates the undiscussability rule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laborative Strategie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 and Support Individual Advocac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Inquir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mbiguous State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ssumpti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Verifiable D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Participation in Solution Develop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/Internal Commit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ell-Tale Signs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iguous stat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Half-B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testable stat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st Me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discussion on important top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l noise/feeling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feel the need to manipulate the “response” or to protect yoursel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dictable negative interac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e Need for Practic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illed Unawarene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illed Incompetenc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so skilled at Organizational Defense Routines, that knowing what they are and recognizing when they occur is not enough to stop us from carrying them out.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ouble Loop Learning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48240"/>
            <a:ext cx="1540080" cy="174600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000"/>
              <a:gd name="textAreaBottom" fmla="*/ 1265760 h 174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4920" y="3276720"/>
            <a:ext cx="205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44920" y="477828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414520"/>
            <a:ext cx="1540080" cy="174636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640 h 1746360"/>
              <a:gd name="textAreaBottom" fmla="*/ 1266120 h 17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394240" y="2208960"/>
            <a:ext cx="1540080" cy="174636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360"/>
              <a:gd name="textAreaBottom" fmla="*/ 1265760 h 17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44920" y="231300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394240" y="3443400"/>
            <a:ext cx="1540080" cy="1746000"/>
          </a:xfrm>
          <a:custGeom>
            <a:avLst/>
            <a:gdLst>
              <a:gd name="textAreaLeft" fmla="*/ 206280 w 1540080"/>
              <a:gd name="textAreaRight" fmla="*/ 1333800 w 1540080"/>
              <a:gd name="textAreaTop" fmla="*/ 305280 h 1746000"/>
              <a:gd name="textAreaBottom" fmla="*/ 1265760 h 174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ree Legs of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ndividual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hority – Ability to make decision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ponsibility – Required tasks or end 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ountability – Required to fix “it” when things go wro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ree Legs of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roup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operation – Joint decision mak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ordination – Synchronized tasks to achieve shared end resul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aboration – Holistic corrective action when things go wro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4008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r Management Psychologists ©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hen Things Go Wrong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st of us do well when there are few threats or little chance of embarrassme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hings go wrong, instead of working together, individuals strive to protect themselv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Chris Argyris)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to be universal with no measurable differences by country, age, sex, ethnic identity, education, wealth, power, or experi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become so skilled at defensive routines that they no longer pay attention to them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ed un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do not see that the behaviors are not leading them to their desired result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ed incompe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ndividual Defense Strategy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y in unilateral contro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ximize winning and minimize los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ppress negative feeling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 as rational as possi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roup Defensive Strategy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sign an ambiguous messag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t like it is not ambiguo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ke the ambiguity of the message undiscussa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ke the undiscussability undiscussabl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rganizational Defense Routine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209680"/>
            <a:ext cx="3352680" cy="167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dividual Defens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y in unilater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ximize winning and minimize 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ppress negative fee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 as rational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343400"/>
            <a:ext cx="3467160" cy="20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Group Defens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ign an ambiguou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 like it is not ambig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ambiguity of the message undiscus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undiscussability undiscus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047760" y="3961800"/>
            <a:ext cx="1219320" cy="1371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876560" y="2895480"/>
            <a:ext cx="1219320" cy="1371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Jumping to Action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819520"/>
            <a:ext cx="30477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69" idx="2"/>
          </p:cNvCxnSpPr>
          <p:nvPr/>
        </p:nvCxnSpPr>
        <p:spPr>
          <a:xfrm flipH="1" rot="16200000">
            <a:off x="4178880" y="3668400"/>
            <a:ext cx="1702440" cy="2160"/>
          </a:xfrm>
          <a:prstGeom prst="curvedConnector5">
            <a:avLst>
              <a:gd name="adj1" fmla="val -38324"/>
              <a:gd name="adj2" fmla="val 69240000"/>
              <a:gd name="adj3" fmla="val -38324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6400800" y="342432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19520" y="3124080"/>
            <a:ext cx="6858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6576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657600"/>
            <a:ext cx="6858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9:32:08Z</dcterms:created>
  <dc:creator>Lynn A. Walker, Ph.D.</dc:creator>
  <dc:description/>
  <dc:language>en-US</dc:language>
  <cp:lastModifiedBy>Lynn A. Walker, Ph.D.</cp:lastModifiedBy>
  <dcterms:modified xsi:type="dcterms:W3CDTF">2004-01-19T04:52:39Z</dcterms:modified>
  <cp:revision>22</cp:revision>
  <dc:subject/>
  <dc:title>Learning to Collaborate</dc:title>
</cp:coreProperties>
</file>